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A3DA1-00B6-4328-9C31-30FAF648A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A217D-559F-4FBC-A282-642695F8D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D9639-99D5-48D6-B11A-FA458EFEB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266CB-F145-4382-AF12-A3D311636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43957-6611-46B4-BE95-B4D95DDF9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17700-99D5-437B-8602-67D221226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8E8D3-39B3-4B0D-89AC-601ED81C8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93AC4-4A36-4B4A-B82E-E1C994B79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5017E-5BBC-4ADE-902F-E367F334C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6151F-91E4-49BF-8C92-395C4C0AA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3764-FF07-4DA6-B62D-12F7F9B61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679F-FA7E-4E64-853B-614931776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5792C-D036-4E61-81FA-97F898FA7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7F9ED-9E14-4E1C-8B4C-BEEA9DCA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A86BF-DAF3-45B3-8C9D-0367D1704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75E9A-CA0E-4391-A699-858656994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FFBCA-1ABD-413D-A695-6FE4E2C09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908B8-43D9-41F3-A552-CA89EACBCC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AD198-6D3A-4945-BD51-C4FE8CE85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3D122-7CC6-4258-95D2-7CD78FCBB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BCCC78-81F7-4B41-AFFF-085E36306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C0E1A-5F28-4B71-80C1-454561985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9C544-51E7-4AB6-8FF2-B684229F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EF75EC-8F78-4544-9A7B-E2005B9F9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8E6C5-407E-46F0-8B7C-7D6BD868B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B817E-5F01-4DFD-B315-C109C2762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E6AA4-9865-4065-9C11-6D3612BC4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C8CEF-77F0-45AC-B8FC-326E72B56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E3E24C-0E7A-4A40-9CBC-91D42FBF37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684CE3-102C-487A-8BFF-DDBB510F9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3E1D3C-17B9-4814-9E51-CC0BF0A761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F2184-45F2-483E-AEB8-B600E79DB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27967-9478-41ED-BFFC-B319DF7672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4600D-974C-4547-A731-C9C07D2C5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5D324-82AE-4A84-A730-A29EF43620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63932-919E-48B5-84CB-B26F7ED35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EDC36-1237-4188-B3E3-45B1D9654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3CD65-8D5F-408F-B2AE-8E0D3DE17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62A3A-9AFA-4E48-A2A7-135A41912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CF7EB-B7A2-4091-8427-451A2B2F6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65CD3-C644-4F28-9EE2-21F6C64FA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96F64D-366D-442B-BC8D-60A1CD67E2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CC9268-16D5-4C3A-8894-2C52B76527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94CA-580A-432A-913B-4AD8AA413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87DDF-46DC-4CCE-BF64-7C9EDF66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14195-460F-45CA-8DCD-F45B6554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484D-5E4E-4652-B7A0-ABCBA89A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695EC-2B58-4855-9521-7167CABD4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CDC0-3A27-4C10-9F82-15257E69407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C3BE-D0A9-4EEA-9359-0B2162C2D98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C559-D205-4BDB-B556-BC0815F1A97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A376-F92C-49BE-A688-F7F2BB89502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2 Lab1</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12C9-2655-492C-958F-10FCDDBBB9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1"/>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F161-1846-4C52-A905-364E80E1318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1"/>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1BAA-7542-478D-8D36-98FBE0549A2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8A64-8F62-4B53-ABCF-BFF1AB551FE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382D-DBDA-47B0-9BA1-88C15907303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0228-CC57-4748-90E9-51B209879C8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6480" cy="384120"/>
            <a:chOff x="835200" y="1060560"/>
            <a:chExt cx="1536480" cy="384120"/>
          </a:xfrm>
        </p:grpSpPr>
        <p:pic>
          <p:nvPicPr>
            <p:cNvPr id="286" name="TextBox 22" descr=""/>
            <p:cNvPicPr/>
            <p:nvPr/>
          </p:nvPicPr>
          <p:blipFill>
            <a:blip r:embed="rId1"/>
            <a:stretch/>
          </p:blipFill>
          <p:spPr>
            <a:xfrm>
              <a:off x="835200" y="1060560"/>
              <a:ext cx="153648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ACEA-EFA7-4121-A304-F56886AF19E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FF4F-708A-4E09-96FB-43F478FE7F2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1"/>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300C-0AE1-4D7C-BF3C-B2D2D8A86E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1"/>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B3E4-7395-45E7-AA77-C9D9CB3C4AC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1"/>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3A30-9791-498C-AC4F-0CF05B6D393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B21F-6FEE-4E29-83C2-D4D109459E5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CF64-F191-445E-AE79-571C8B80A74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1"/>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2B20-69E1-4980-889D-9DF4A72DD8B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1"/>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5832-FAA3-4670-88BD-FC461D845B6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Dina</cp:lastModifiedBy>
  <dcterms:modified xsi:type="dcterms:W3CDTF">2009-04-06T09:45:50Z</dcterms:modified>
  <cp:revision>215</cp:revision>
  <dc:subject/>
  <dc:title>CPSC 203</dc:title>
</cp:coreProperties>
</file>